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A99-99C1-4534-AF14-F884DC13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01F-B47A-4E3D-BC67-B359B912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239-FD8D-4B69-B816-AC5D5277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76C4-1922-465B-81A0-B63EBC58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1EF9-40AB-4B4B-A73E-0CAA7A08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37E-BCF7-4B2F-B137-F147FA29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D51-36A4-4A79-BAAF-D53BB111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75A-0747-49BB-BC7C-F0DF3397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F86-504D-4E37-AD55-51163018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C9D-947B-4ED9-AD6F-DE729BD1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6B6-2E61-43D6-8CEB-236B794F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128-7FAD-46DA-A385-365036D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1091-F20F-402F-BC20-950226583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28920" y="5540400"/>
            <a:ext cx="685800" cy="907920"/>
            <a:chOff x="3328920" y="5540400"/>
            <a:chExt cx="685800" cy="907920"/>
          </a:xfrm>
        </p:grpSpPr>
        <p:grpSp>
          <p:nvGrpSpPr>
            <p:cNvPr id="42" name=""/>
            <p:cNvGrpSpPr/>
            <p:nvPr/>
          </p:nvGrpSpPr>
          <p:grpSpPr>
            <a:xfrm>
              <a:off x="3414600" y="5619600"/>
              <a:ext cx="514440" cy="770040"/>
              <a:chOff x="3414600" y="5619600"/>
              <a:chExt cx="514440" cy="7700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414600" y="5619600"/>
                <a:ext cx="514440" cy="45000"/>
                <a:chOff x="3414600" y="5619600"/>
                <a:chExt cx="514440" cy="450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4146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5002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585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36716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757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8433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3414600" y="5619600"/>
                <a:ext cx="514440" cy="45000"/>
                <a:chOff x="3414600" y="5619600"/>
                <a:chExt cx="514440" cy="4500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4146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5002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585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6716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757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8433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414600" y="5722920"/>
                <a:ext cx="514440" cy="45000"/>
                <a:chOff x="3414600" y="5722920"/>
                <a:chExt cx="514440" cy="450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414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500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585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671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757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843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3414600" y="5722920"/>
                <a:ext cx="514440" cy="45000"/>
                <a:chOff x="3414600" y="5722920"/>
                <a:chExt cx="514440" cy="4500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414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500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585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671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757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843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3414600" y="5722920"/>
                <a:ext cx="514440" cy="45000"/>
                <a:chOff x="3414600" y="5722920"/>
                <a:chExt cx="514440" cy="45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414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500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585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671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757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843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414600" y="5722920"/>
                <a:ext cx="514440" cy="45000"/>
                <a:chOff x="3414600" y="5722920"/>
                <a:chExt cx="514440" cy="450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414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00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585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71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57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843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3414600" y="5826600"/>
                <a:ext cx="514440" cy="45000"/>
                <a:chOff x="3414600" y="5826600"/>
                <a:chExt cx="514440" cy="45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41460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5002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5859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67164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576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8433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414600" y="5929920"/>
                <a:ext cx="514440" cy="45000"/>
                <a:chOff x="3414600" y="5929920"/>
                <a:chExt cx="514440" cy="450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41460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002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5859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67164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576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8433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414600" y="6033600"/>
                <a:ext cx="514440" cy="45000"/>
                <a:chOff x="3414600" y="6033600"/>
                <a:chExt cx="514440" cy="45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41460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5002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5859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67164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576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433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414600" y="6137280"/>
                <a:ext cx="514440" cy="45000"/>
                <a:chOff x="3414600" y="6137280"/>
                <a:chExt cx="514440" cy="45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41460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002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859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67164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576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433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414600" y="6240960"/>
                <a:ext cx="514440" cy="45000"/>
                <a:chOff x="3414600" y="6240960"/>
                <a:chExt cx="514440" cy="450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41460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5002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5859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7164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576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8433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414600" y="6344640"/>
                <a:ext cx="514440" cy="45000"/>
                <a:chOff x="3414600" y="6344640"/>
                <a:chExt cx="514440" cy="450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41460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5002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5859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67164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576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8433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" name=""/>
            <p:cNvSpPr/>
            <p:nvPr/>
          </p:nvSpPr>
          <p:spPr>
            <a:xfrm>
              <a:off x="3328920" y="554040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414600" y="3844800"/>
            <a:ext cx="514440" cy="44640"/>
            <a:chOff x="3414600" y="3844800"/>
            <a:chExt cx="514440" cy="44640"/>
          </a:xfrm>
        </p:grpSpPr>
        <p:sp>
          <p:nvSpPr>
            <p:cNvPr id="129" name=""/>
            <p:cNvSpPr/>
            <p:nvPr/>
          </p:nvSpPr>
          <p:spPr>
            <a:xfrm>
              <a:off x="341460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0028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8596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7164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5768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43360" y="3844800"/>
              <a:ext cx="85680" cy="44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14600" y="3844800"/>
            <a:ext cx="514440" cy="44640"/>
            <a:chOff x="3414600" y="3844800"/>
            <a:chExt cx="514440" cy="44640"/>
          </a:xfrm>
        </p:grpSpPr>
        <p:sp>
          <p:nvSpPr>
            <p:cNvPr id="136" name=""/>
            <p:cNvSpPr/>
            <p:nvPr/>
          </p:nvSpPr>
          <p:spPr>
            <a:xfrm>
              <a:off x="341460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02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859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7164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576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33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14600" y="3948120"/>
            <a:ext cx="514440" cy="46080"/>
            <a:chOff x="3414600" y="3948120"/>
            <a:chExt cx="514440" cy="46080"/>
          </a:xfrm>
        </p:grpSpPr>
        <p:sp>
          <p:nvSpPr>
            <p:cNvPr id="143" name=""/>
            <p:cNvSpPr/>
            <p:nvPr/>
          </p:nvSpPr>
          <p:spPr>
            <a:xfrm>
              <a:off x="341460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02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859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7164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576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433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14600" y="3948120"/>
            <a:ext cx="514440" cy="46080"/>
            <a:chOff x="3414600" y="3948120"/>
            <a:chExt cx="514440" cy="46080"/>
          </a:xfrm>
        </p:grpSpPr>
        <p:sp>
          <p:nvSpPr>
            <p:cNvPr id="150" name=""/>
            <p:cNvSpPr/>
            <p:nvPr/>
          </p:nvSpPr>
          <p:spPr>
            <a:xfrm>
              <a:off x="341460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002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59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164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76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433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414600" y="3948120"/>
            <a:ext cx="514440" cy="46080"/>
            <a:chOff x="3414600" y="3948120"/>
            <a:chExt cx="514440" cy="46080"/>
          </a:xfrm>
        </p:grpSpPr>
        <p:sp>
          <p:nvSpPr>
            <p:cNvPr id="157" name=""/>
            <p:cNvSpPr/>
            <p:nvPr/>
          </p:nvSpPr>
          <p:spPr>
            <a:xfrm>
              <a:off x="341460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02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59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164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5768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43360" y="3948120"/>
              <a:ext cx="85680" cy="46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41460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0280" y="3948120"/>
            <a:ext cx="8604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8632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7200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57680" y="3948120"/>
            <a:ext cx="8568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4336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414600" y="4051440"/>
            <a:ext cx="514440" cy="45720"/>
            <a:chOff x="3414600" y="4051440"/>
            <a:chExt cx="514440" cy="45720"/>
          </a:xfrm>
        </p:grpSpPr>
        <p:sp>
          <p:nvSpPr>
            <p:cNvPr id="170" name=""/>
            <p:cNvSpPr/>
            <p:nvPr/>
          </p:nvSpPr>
          <p:spPr>
            <a:xfrm>
              <a:off x="341460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028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596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7164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5768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4336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414600" y="4156200"/>
            <a:ext cx="514440" cy="44280"/>
            <a:chOff x="3414600" y="4156200"/>
            <a:chExt cx="514440" cy="44280"/>
          </a:xfrm>
        </p:grpSpPr>
        <p:sp>
          <p:nvSpPr>
            <p:cNvPr id="177" name=""/>
            <p:cNvSpPr/>
            <p:nvPr/>
          </p:nvSpPr>
          <p:spPr>
            <a:xfrm>
              <a:off x="341460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028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596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7164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5768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43360" y="415620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414600" y="4259160"/>
            <a:ext cx="514440" cy="44640"/>
            <a:chOff x="3414600" y="4259160"/>
            <a:chExt cx="514440" cy="44640"/>
          </a:xfrm>
        </p:grpSpPr>
        <p:sp>
          <p:nvSpPr>
            <p:cNvPr id="184" name=""/>
            <p:cNvSpPr/>
            <p:nvPr/>
          </p:nvSpPr>
          <p:spPr>
            <a:xfrm>
              <a:off x="341460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028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596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7164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5768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43360" y="42591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414600" y="4362480"/>
            <a:ext cx="514440" cy="46080"/>
            <a:chOff x="3414600" y="4362480"/>
            <a:chExt cx="514440" cy="46080"/>
          </a:xfrm>
        </p:grpSpPr>
        <p:sp>
          <p:nvSpPr>
            <p:cNvPr id="191" name=""/>
            <p:cNvSpPr/>
            <p:nvPr/>
          </p:nvSpPr>
          <p:spPr>
            <a:xfrm>
              <a:off x="341460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028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8596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7164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5768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43360" y="4362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14600" y="4465800"/>
            <a:ext cx="514440" cy="45720"/>
            <a:chOff x="3414600" y="4465800"/>
            <a:chExt cx="514440" cy="45720"/>
          </a:xfrm>
        </p:grpSpPr>
        <p:sp>
          <p:nvSpPr>
            <p:cNvPr id="198" name=""/>
            <p:cNvSpPr/>
            <p:nvPr/>
          </p:nvSpPr>
          <p:spPr>
            <a:xfrm>
              <a:off x="341460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028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8596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7164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768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4336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414600" y="457056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0280" y="4570560"/>
            <a:ext cx="8604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86320" y="457056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72000" y="457056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7680" y="457056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43360" y="457056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28920" y="376560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54600" y="3844800"/>
            <a:ext cx="514440" cy="44640"/>
            <a:chOff x="4854600" y="3844800"/>
            <a:chExt cx="514440" cy="44640"/>
          </a:xfrm>
        </p:grpSpPr>
        <p:sp>
          <p:nvSpPr>
            <p:cNvPr id="212" name=""/>
            <p:cNvSpPr/>
            <p:nvPr/>
          </p:nvSpPr>
          <p:spPr>
            <a:xfrm>
              <a:off x="485460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402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259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1164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976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833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854600" y="3844800"/>
            <a:ext cx="514440" cy="44640"/>
            <a:chOff x="4854600" y="3844800"/>
            <a:chExt cx="514440" cy="44640"/>
          </a:xfrm>
        </p:grpSpPr>
        <p:sp>
          <p:nvSpPr>
            <p:cNvPr id="219" name=""/>
            <p:cNvSpPr/>
            <p:nvPr/>
          </p:nvSpPr>
          <p:spPr>
            <a:xfrm>
              <a:off x="485460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02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259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1164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976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8336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54600" y="3948120"/>
            <a:ext cx="514440" cy="46080"/>
            <a:chOff x="4854600" y="3948120"/>
            <a:chExt cx="514440" cy="46080"/>
          </a:xfrm>
        </p:grpSpPr>
        <p:sp>
          <p:nvSpPr>
            <p:cNvPr id="226" name=""/>
            <p:cNvSpPr/>
            <p:nvPr/>
          </p:nvSpPr>
          <p:spPr>
            <a:xfrm>
              <a:off x="4854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40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59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116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976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833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854600" y="3948120"/>
            <a:ext cx="514440" cy="46080"/>
            <a:chOff x="4854600" y="3948120"/>
            <a:chExt cx="514440" cy="46080"/>
          </a:xfrm>
        </p:grpSpPr>
        <p:sp>
          <p:nvSpPr>
            <p:cNvPr id="233" name=""/>
            <p:cNvSpPr/>
            <p:nvPr/>
          </p:nvSpPr>
          <p:spPr>
            <a:xfrm>
              <a:off x="4854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40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59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116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976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833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854600" y="3948120"/>
            <a:ext cx="514440" cy="46080"/>
            <a:chOff x="4854600" y="3948120"/>
            <a:chExt cx="514440" cy="46080"/>
          </a:xfrm>
        </p:grpSpPr>
        <p:sp>
          <p:nvSpPr>
            <p:cNvPr id="240" name=""/>
            <p:cNvSpPr/>
            <p:nvPr/>
          </p:nvSpPr>
          <p:spPr>
            <a:xfrm>
              <a:off x="4854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40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59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116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976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833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854600" y="3948120"/>
            <a:ext cx="514440" cy="46080"/>
            <a:chOff x="4854600" y="3948120"/>
            <a:chExt cx="514440" cy="46080"/>
          </a:xfrm>
        </p:grpSpPr>
        <p:sp>
          <p:nvSpPr>
            <p:cNvPr id="247" name=""/>
            <p:cNvSpPr/>
            <p:nvPr/>
          </p:nvSpPr>
          <p:spPr>
            <a:xfrm>
              <a:off x="4854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40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259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116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976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8336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854600" y="4051440"/>
            <a:ext cx="514440" cy="45720"/>
            <a:chOff x="4854600" y="4051440"/>
            <a:chExt cx="514440" cy="45720"/>
          </a:xfrm>
        </p:grpSpPr>
        <p:sp>
          <p:nvSpPr>
            <p:cNvPr id="254" name=""/>
            <p:cNvSpPr/>
            <p:nvPr/>
          </p:nvSpPr>
          <p:spPr>
            <a:xfrm>
              <a:off x="485460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4028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2596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164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9768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83360" y="40514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854600" y="4156200"/>
            <a:ext cx="514440" cy="44280"/>
            <a:chOff x="4854600" y="4156200"/>
            <a:chExt cx="514440" cy="44280"/>
          </a:xfrm>
        </p:grpSpPr>
        <p:sp>
          <p:nvSpPr>
            <p:cNvPr id="261" name=""/>
            <p:cNvSpPr/>
            <p:nvPr/>
          </p:nvSpPr>
          <p:spPr>
            <a:xfrm>
              <a:off x="485460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4028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2596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1164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9768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83360" y="415620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54600" y="4259160"/>
            <a:ext cx="514440" cy="44640"/>
            <a:chOff x="4854600" y="4259160"/>
            <a:chExt cx="514440" cy="44640"/>
          </a:xfrm>
        </p:grpSpPr>
        <p:sp>
          <p:nvSpPr>
            <p:cNvPr id="268" name=""/>
            <p:cNvSpPr/>
            <p:nvPr/>
          </p:nvSpPr>
          <p:spPr>
            <a:xfrm>
              <a:off x="485460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4028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2596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1164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9768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8336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854600" y="4362480"/>
            <a:ext cx="514440" cy="46080"/>
            <a:chOff x="4854600" y="4362480"/>
            <a:chExt cx="514440" cy="46080"/>
          </a:xfrm>
        </p:grpSpPr>
        <p:sp>
          <p:nvSpPr>
            <p:cNvPr id="275" name=""/>
            <p:cNvSpPr/>
            <p:nvPr/>
          </p:nvSpPr>
          <p:spPr>
            <a:xfrm>
              <a:off x="485460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4028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2596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1164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9768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8336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854600" y="4465800"/>
            <a:ext cx="514440" cy="45720"/>
            <a:chOff x="4854600" y="4465800"/>
            <a:chExt cx="514440" cy="45720"/>
          </a:xfrm>
        </p:grpSpPr>
        <p:sp>
          <p:nvSpPr>
            <p:cNvPr id="282" name=""/>
            <p:cNvSpPr/>
            <p:nvPr/>
          </p:nvSpPr>
          <p:spPr>
            <a:xfrm>
              <a:off x="485460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4028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2596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1164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9768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8336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854600" y="4570560"/>
            <a:ext cx="514440" cy="44280"/>
            <a:chOff x="4854600" y="4570560"/>
            <a:chExt cx="514440" cy="44280"/>
          </a:xfrm>
        </p:grpSpPr>
        <p:sp>
          <p:nvSpPr>
            <p:cNvPr id="289" name=""/>
            <p:cNvSpPr/>
            <p:nvPr/>
          </p:nvSpPr>
          <p:spPr>
            <a:xfrm>
              <a:off x="485460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4028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596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1164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9768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83360" y="45705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768920" y="376560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294600" y="3825720"/>
            <a:ext cx="514080" cy="44640"/>
            <a:chOff x="6294600" y="3825720"/>
            <a:chExt cx="514080" cy="44640"/>
          </a:xfrm>
        </p:grpSpPr>
        <p:sp>
          <p:nvSpPr>
            <p:cNvPr id="297" name=""/>
            <p:cNvSpPr/>
            <p:nvPr/>
          </p:nvSpPr>
          <p:spPr>
            <a:xfrm>
              <a:off x="629460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8028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6596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5164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3732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2300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294600" y="3825720"/>
            <a:ext cx="514080" cy="44640"/>
            <a:chOff x="6294600" y="3825720"/>
            <a:chExt cx="514080" cy="44640"/>
          </a:xfrm>
        </p:grpSpPr>
        <p:sp>
          <p:nvSpPr>
            <p:cNvPr id="304" name=""/>
            <p:cNvSpPr/>
            <p:nvPr/>
          </p:nvSpPr>
          <p:spPr>
            <a:xfrm>
              <a:off x="629460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8028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6596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5164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3732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23000" y="382572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294600" y="3929040"/>
            <a:ext cx="514080" cy="46080"/>
            <a:chOff x="6294600" y="3929040"/>
            <a:chExt cx="514080" cy="46080"/>
          </a:xfrm>
        </p:grpSpPr>
        <p:sp>
          <p:nvSpPr>
            <p:cNvPr id="311" name=""/>
            <p:cNvSpPr/>
            <p:nvPr/>
          </p:nvSpPr>
          <p:spPr>
            <a:xfrm>
              <a:off x="62946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8028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6596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5164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732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230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294600" y="3929040"/>
            <a:ext cx="514080" cy="46080"/>
            <a:chOff x="6294600" y="3929040"/>
            <a:chExt cx="514080" cy="46080"/>
          </a:xfrm>
        </p:grpSpPr>
        <p:sp>
          <p:nvSpPr>
            <p:cNvPr id="318" name=""/>
            <p:cNvSpPr/>
            <p:nvPr/>
          </p:nvSpPr>
          <p:spPr>
            <a:xfrm>
              <a:off x="62946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8028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6596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5164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3732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230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294600" y="3929040"/>
            <a:ext cx="514080" cy="46080"/>
            <a:chOff x="6294600" y="3929040"/>
            <a:chExt cx="514080" cy="46080"/>
          </a:xfrm>
        </p:grpSpPr>
        <p:sp>
          <p:nvSpPr>
            <p:cNvPr id="325" name=""/>
            <p:cNvSpPr/>
            <p:nvPr/>
          </p:nvSpPr>
          <p:spPr>
            <a:xfrm>
              <a:off x="62946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8028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6596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5164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3732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23000" y="39290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294600" y="3929040"/>
            <a:ext cx="514080" cy="46080"/>
            <a:chOff x="6294600" y="3929040"/>
            <a:chExt cx="514080" cy="46080"/>
          </a:xfrm>
        </p:grpSpPr>
        <p:sp>
          <p:nvSpPr>
            <p:cNvPr id="332" name=""/>
            <p:cNvSpPr/>
            <p:nvPr/>
          </p:nvSpPr>
          <p:spPr>
            <a:xfrm>
              <a:off x="629460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8028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6596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164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3732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23000" y="39290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294600" y="4032360"/>
            <a:ext cx="514080" cy="46080"/>
            <a:chOff x="6294600" y="4032360"/>
            <a:chExt cx="514080" cy="46080"/>
          </a:xfrm>
        </p:grpSpPr>
        <p:sp>
          <p:nvSpPr>
            <p:cNvPr id="339" name=""/>
            <p:cNvSpPr/>
            <p:nvPr/>
          </p:nvSpPr>
          <p:spPr>
            <a:xfrm>
              <a:off x="629460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8028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6596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5164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3732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23000" y="403236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294600" y="4137120"/>
            <a:ext cx="514080" cy="44280"/>
            <a:chOff x="6294600" y="4137120"/>
            <a:chExt cx="514080" cy="44280"/>
          </a:xfrm>
        </p:grpSpPr>
        <p:sp>
          <p:nvSpPr>
            <p:cNvPr id="346" name=""/>
            <p:cNvSpPr/>
            <p:nvPr/>
          </p:nvSpPr>
          <p:spPr>
            <a:xfrm>
              <a:off x="629460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8028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6596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5164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3732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23000" y="41371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294600" y="4240080"/>
            <a:ext cx="514080" cy="44640"/>
            <a:chOff x="6294600" y="4240080"/>
            <a:chExt cx="514080" cy="44640"/>
          </a:xfrm>
        </p:grpSpPr>
        <p:sp>
          <p:nvSpPr>
            <p:cNvPr id="353" name=""/>
            <p:cNvSpPr/>
            <p:nvPr/>
          </p:nvSpPr>
          <p:spPr>
            <a:xfrm>
              <a:off x="629460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8028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6596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5164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3732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23000" y="424008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294600" y="4343400"/>
            <a:ext cx="514080" cy="46080"/>
            <a:chOff x="6294600" y="4343400"/>
            <a:chExt cx="514080" cy="46080"/>
          </a:xfrm>
        </p:grpSpPr>
        <p:sp>
          <p:nvSpPr>
            <p:cNvPr id="360" name=""/>
            <p:cNvSpPr/>
            <p:nvPr/>
          </p:nvSpPr>
          <p:spPr>
            <a:xfrm>
              <a:off x="629460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8028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6596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164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3732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23000" y="43434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294600" y="4446720"/>
            <a:ext cx="514080" cy="46080"/>
            <a:chOff x="6294600" y="4446720"/>
            <a:chExt cx="514080" cy="46080"/>
          </a:xfrm>
        </p:grpSpPr>
        <p:sp>
          <p:nvSpPr>
            <p:cNvPr id="367" name=""/>
            <p:cNvSpPr/>
            <p:nvPr/>
          </p:nvSpPr>
          <p:spPr>
            <a:xfrm>
              <a:off x="629460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8028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6596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55164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3732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723000" y="44467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294600" y="455148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80280" y="455148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65960" y="455148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1640" y="455148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37320" y="455148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23000" y="455148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08560" y="374652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761240" y="3844800"/>
            <a:ext cx="514440" cy="44640"/>
            <a:chOff x="7761240" y="3844800"/>
            <a:chExt cx="514440" cy="44640"/>
          </a:xfrm>
        </p:grpSpPr>
        <p:sp>
          <p:nvSpPr>
            <p:cNvPr id="381" name=""/>
            <p:cNvSpPr/>
            <p:nvPr/>
          </p:nvSpPr>
          <p:spPr>
            <a:xfrm>
              <a:off x="776124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4692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3260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828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0432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190000" y="38448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761240" y="38448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846920" y="38448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932600" y="3844800"/>
            <a:ext cx="8604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18640" y="384480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104320" y="38448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190000" y="384480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761240" y="3948120"/>
            <a:ext cx="514440" cy="46080"/>
            <a:chOff x="7761240" y="3948120"/>
            <a:chExt cx="514440" cy="46080"/>
          </a:xfrm>
        </p:grpSpPr>
        <p:sp>
          <p:nvSpPr>
            <p:cNvPr id="394" name=""/>
            <p:cNvSpPr/>
            <p:nvPr/>
          </p:nvSpPr>
          <p:spPr>
            <a:xfrm>
              <a:off x="77612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469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32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18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043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900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761240" y="3948120"/>
            <a:ext cx="514440" cy="46080"/>
            <a:chOff x="7761240" y="3948120"/>
            <a:chExt cx="514440" cy="46080"/>
          </a:xfrm>
        </p:grpSpPr>
        <p:sp>
          <p:nvSpPr>
            <p:cNvPr id="401" name=""/>
            <p:cNvSpPr/>
            <p:nvPr/>
          </p:nvSpPr>
          <p:spPr>
            <a:xfrm>
              <a:off x="77612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469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32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18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043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900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761240" y="3948120"/>
            <a:ext cx="514440" cy="46080"/>
            <a:chOff x="7761240" y="3948120"/>
            <a:chExt cx="514440" cy="46080"/>
          </a:xfrm>
        </p:grpSpPr>
        <p:sp>
          <p:nvSpPr>
            <p:cNvPr id="408" name=""/>
            <p:cNvSpPr/>
            <p:nvPr/>
          </p:nvSpPr>
          <p:spPr>
            <a:xfrm>
              <a:off x="776124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469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326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1828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0432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90000" y="394812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76124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84692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2600" y="3948120"/>
            <a:ext cx="8604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1864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0432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90000" y="394812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61240" y="4051440"/>
            <a:ext cx="85680" cy="45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46920" y="4051440"/>
            <a:ext cx="85680" cy="45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32600" y="4051440"/>
            <a:ext cx="86040" cy="45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18640" y="4051440"/>
            <a:ext cx="85680" cy="45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104320" y="4051440"/>
            <a:ext cx="85680" cy="45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190000" y="4051440"/>
            <a:ext cx="85680" cy="45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61240" y="415620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846920" y="415620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932600" y="4156200"/>
            <a:ext cx="8604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18640" y="415620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104320" y="415620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190000" y="415620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761240" y="4259160"/>
            <a:ext cx="514440" cy="44640"/>
            <a:chOff x="7761240" y="4259160"/>
            <a:chExt cx="514440" cy="44640"/>
          </a:xfrm>
        </p:grpSpPr>
        <p:sp>
          <p:nvSpPr>
            <p:cNvPr id="433" name=""/>
            <p:cNvSpPr/>
            <p:nvPr/>
          </p:nvSpPr>
          <p:spPr>
            <a:xfrm>
              <a:off x="776124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692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3260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1828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0432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190000" y="42591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761240" y="4362480"/>
            <a:ext cx="514440" cy="46080"/>
            <a:chOff x="7761240" y="4362480"/>
            <a:chExt cx="514440" cy="46080"/>
          </a:xfrm>
        </p:grpSpPr>
        <p:sp>
          <p:nvSpPr>
            <p:cNvPr id="440" name=""/>
            <p:cNvSpPr/>
            <p:nvPr/>
          </p:nvSpPr>
          <p:spPr>
            <a:xfrm>
              <a:off x="776124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4692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3260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1828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0432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90000" y="43624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7761240" y="4465800"/>
            <a:ext cx="514440" cy="45720"/>
            <a:chOff x="7761240" y="4465800"/>
            <a:chExt cx="514440" cy="45720"/>
          </a:xfrm>
        </p:grpSpPr>
        <p:sp>
          <p:nvSpPr>
            <p:cNvPr id="447" name=""/>
            <p:cNvSpPr/>
            <p:nvPr/>
          </p:nvSpPr>
          <p:spPr>
            <a:xfrm>
              <a:off x="776124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4692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93260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1828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0432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190000" y="446580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761240" y="4570560"/>
            <a:ext cx="514440" cy="44280"/>
            <a:chOff x="7761240" y="4570560"/>
            <a:chExt cx="514440" cy="44280"/>
          </a:xfrm>
        </p:grpSpPr>
        <p:sp>
          <p:nvSpPr>
            <p:cNvPr id="454" name=""/>
            <p:cNvSpPr/>
            <p:nvPr/>
          </p:nvSpPr>
          <p:spPr>
            <a:xfrm>
              <a:off x="776124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4692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3260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1828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0432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90000" y="45705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7675560" y="376560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148280" y="2270160"/>
            <a:ext cx="514080" cy="44280"/>
            <a:chOff x="4148280" y="2270160"/>
            <a:chExt cx="514080" cy="44280"/>
          </a:xfrm>
        </p:grpSpPr>
        <p:sp>
          <p:nvSpPr>
            <p:cNvPr id="462" name=""/>
            <p:cNvSpPr/>
            <p:nvPr/>
          </p:nvSpPr>
          <p:spPr>
            <a:xfrm>
              <a:off x="41482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3396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1964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0532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9100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66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148280" y="2270160"/>
            <a:ext cx="514080" cy="44280"/>
            <a:chOff x="4148280" y="2270160"/>
            <a:chExt cx="514080" cy="44280"/>
          </a:xfrm>
        </p:grpSpPr>
        <p:sp>
          <p:nvSpPr>
            <p:cNvPr id="469" name=""/>
            <p:cNvSpPr/>
            <p:nvPr/>
          </p:nvSpPr>
          <p:spPr>
            <a:xfrm>
              <a:off x="41482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3396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1964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0532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100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766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148280" y="2373480"/>
            <a:ext cx="514080" cy="45720"/>
            <a:chOff x="4148280" y="2373480"/>
            <a:chExt cx="514080" cy="45720"/>
          </a:xfrm>
        </p:grpSpPr>
        <p:sp>
          <p:nvSpPr>
            <p:cNvPr id="476" name=""/>
            <p:cNvSpPr/>
            <p:nvPr/>
          </p:nvSpPr>
          <p:spPr>
            <a:xfrm>
              <a:off x="4148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33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1964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053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9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7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148280" y="2373480"/>
            <a:ext cx="514080" cy="45720"/>
            <a:chOff x="4148280" y="2373480"/>
            <a:chExt cx="514080" cy="45720"/>
          </a:xfrm>
        </p:grpSpPr>
        <p:sp>
          <p:nvSpPr>
            <p:cNvPr id="483" name=""/>
            <p:cNvSpPr/>
            <p:nvPr/>
          </p:nvSpPr>
          <p:spPr>
            <a:xfrm>
              <a:off x="4148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33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1964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053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7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148280" y="2373480"/>
            <a:ext cx="514080" cy="45720"/>
            <a:chOff x="4148280" y="2373480"/>
            <a:chExt cx="514080" cy="45720"/>
          </a:xfrm>
        </p:grpSpPr>
        <p:sp>
          <p:nvSpPr>
            <p:cNvPr id="490" name=""/>
            <p:cNvSpPr/>
            <p:nvPr/>
          </p:nvSpPr>
          <p:spPr>
            <a:xfrm>
              <a:off x="4148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33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1964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053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7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4148280" y="2373480"/>
            <a:ext cx="514080" cy="45720"/>
            <a:chOff x="4148280" y="2373480"/>
            <a:chExt cx="514080" cy="45720"/>
          </a:xfrm>
        </p:grpSpPr>
        <p:sp>
          <p:nvSpPr>
            <p:cNvPr id="497" name=""/>
            <p:cNvSpPr/>
            <p:nvPr/>
          </p:nvSpPr>
          <p:spPr>
            <a:xfrm>
              <a:off x="414828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3396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1964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0532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9100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76680" y="2373480"/>
              <a:ext cx="85680" cy="45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148280" y="2476440"/>
            <a:ext cx="514080" cy="46080"/>
            <a:chOff x="4148280" y="2476440"/>
            <a:chExt cx="514080" cy="46080"/>
          </a:xfrm>
        </p:grpSpPr>
        <p:sp>
          <p:nvSpPr>
            <p:cNvPr id="504" name=""/>
            <p:cNvSpPr/>
            <p:nvPr/>
          </p:nvSpPr>
          <p:spPr>
            <a:xfrm>
              <a:off x="414828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3396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1964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0532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9100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76680" y="247644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14828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23396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1964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0532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9100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76680" y="258120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148280" y="2684520"/>
            <a:ext cx="514080" cy="44280"/>
            <a:chOff x="4148280" y="2684520"/>
            <a:chExt cx="514080" cy="44280"/>
          </a:xfrm>
        </p:grpSpPr>
        <p:sp>
          <p:nvSpPr>
            <p:cNvPr id="517" name=""/>
            <p:cNvSpPr/>
            <p:nvPr/>
          </p:nvSpPr>
          <p:spPr>
            <a:xfrm>
              <a:off x="414828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3396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1964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0532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9100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576680" y="268452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148280" y="2787480"/>
            <a:ext cx="514080" cy="46080"/>
            <a:chOff x="4148280" y="2787480"/>
            <a:chExt cx="514080" cy="46080"/>
          </a:xfrm>
        </p:grpSpPr>
        <p:sp>
          <p:nvSpPr>
            <p:cNvPr id="524" name=""/>
            <p:cNvSpPr/>
            <p:nvPr/>
          </p:nvSpPr>
          <p:spPr>
            <a:xfrm>
              <a:off x="414828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3396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1964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40532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9100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576680" y="278748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148280" y="2890800"/>
            <a:ext cx="514080" cy="46080"/>
            <a:chOff x="4148280" y="2890800"/>
            <a:chExt cx="514080" cy="46080"/>
          </a:xfrm>
        </p:grpSpPr>
        <p:sp>
          <p:nvSpPr>
            <p:cNvPr id="531" name=""/>
            <p:cNvSpPr/>
            <p:nvPr/>
          </p:nvSpPr>
          <p:spPr>
            <a:xfrm>
              <a:off x="414828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3396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1964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0532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9100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7668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148280" y="299556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33960" y="299556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319640" y="299556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405320" y="299556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91000" y="299556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76680" y="299556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062240" y="2190600"/>
            <a:ext cx="685800" cy="908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587920" y="2270160"/>
            <a:ext cx="514440" cy="44280"/>
            <a:chOff x="5587920" y="2270160"/>
            <a:chExt cx="514440" cy="44280"/>
          </a:xfrm>
        </p:grpSpPr>
        <p:sp>
          <p:nvSpPr>
            <p:cNvPr id="545" name=""/>
            <p:cNvSpPr/>
            <p:nvPr/>
          </p:nvSpPr>
          <p:spPr>
            <a:xfrm>
              <a:off x="558792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7360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592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4496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3100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6680" y="22701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587920" y="2270160"/>
            <a:ext cx="514440" cy="44280"/>
            <a:chOff x="5587920" y="2270160"/>
            <a:chExt cx="514440" cy="44280"/>
          </a:xfrm>
        </p:grpSpPr>
        <p:sp>
          <p:nvSpPr>
            <p:cNvPr id="552" name=""/>
            <p:cNvSpPr/>
            <p:nvPr/>
          </p:nvSpPr>
          <p:spPr>
            <a:xfrm>
              <a:off x="558792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7360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5928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4496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3100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16680" y="227016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587920" y="2373480"/>
            <a:ext cx="514440" cy="45720"/>
            <a:chOff x="5587920" y="2373480"/>
            <a:chExt cx="514440" cy="45720"/>
          </a:xfrm>
        </p:grpSpPr>
        <p:sp>
          <p:nvSpPr>
            <p:cNvPr id="559" name=""/>
            <p:cNvSpPr/>
            <p:nvPr/>
          </p:nvSpPr>
          <p:spPr>
            <a:xfrm>
              <a:off x="55879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736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59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844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3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1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587920" y="2373480"/>
            <a:ext cx="514440" cy="45720"/>
            <a:chOff x="5587920" y="2373480"/>
            <a:chExt cx="514440" cy="45720"/>
          </a:xfrm>
        </p:grpSpPr>
        <p:sp>
          <p:nvSpPr>
            <p:cNvPr id="566" name=""/>
            <p:cNvSpPr/>
            <p:nvPr/>
          </p:nvSpPr>
          <p:spPr>
            <a:xfrm>
              <a:off x="55879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736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59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44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3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1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587920" y="2373480"/>
            <a:ext cx="514440" cy="45720"/>
            <a:chOff x="5587920" y="2373480"/>
            <a:chExt cx="514440" cy="45720"/>
          </a:xfrm>
        </p:grpSpPr>
        <p:sp>
          <p:nvSpPr>
            <p:cNvPr id="573" name=""/>
            <p:cNvSpPr/>
            <p:nvPr/>
          </p:nvSpPr>
          <p:spPr>
            <a:xfrm>
              <a:off x="55879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736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59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44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3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1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87920" y="2373480"/>
            <a:ext cx="514440" cy="45720"/>
            <a:chOff x="5587920" y="2373480"/>
            <a:chExt cx="514440" cy="45720"/>
          </a:xfrm>
        </p:grpSpPr>
        <p:sp>
          <p:nvSpPr>
            <p:cNvPr id="580" name=""/>
            <p:cNvSpPr/>
            <p:nvPr/>
          </p:nvSpPr>
          <p:spPr>
            <a:xfrm>
              <a:off x="558792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736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592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4496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3100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16680" y="237348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587920" y="247644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73600" y="247644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59280" y="2476440"/>
            <a:ext cx="8604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845320" y="247644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31000" y="247644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016680" y="2476440"/>
            <a:ext cx="8568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920" y="2581200"/>
            <a:ext cx="514440" cy="44640"/>
            <a:chOff x="5587920" y="2581200"/>
            <a:chExt cx="514440" cy="44640"/>
          </a:xfrm>
        </p:grpSpPr>
        <p:sp>
          <p:nvSpPr>
            <p:cNvPr id="593" name=""/>
            <p:cNvSpPr/>
            <p:nvPr/>
          </p:nvSpPr>
          <p:spPr>
            <a:xfrm>
              <a:off x="558792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7360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5928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4496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3100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16680" y="25812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5587920" y="268452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673600" y="268452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59280" y="2684520"/>
            <a:ext cx="8604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845320" y="2684520"/>
            <a:ext cx="85680" cy="4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31000" y="268452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16680" y="2684520"/>
            <a:ext cx="85680" cy="4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587920" y="278748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73600" y="278748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59280" y="2787480"/>
            <a:ext cx="8604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845320" y="278748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931000" y="2787480"/>
            <a:ext cx="8568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16680" y="278748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587920" y="2890800"/>
            <a:ext cx="514440" cy="46080"/>
            <a:chOff x="5587920" y="2890800"/>
            <a:chExt cx="514440" cy="46080"/>
          </a:xfrm>
        </p:grpSpPr>
        <p:sp>
          <p:nvSpPr>
            <p:cNvPr id="612" name=""/>
            <p:cNvSpPr/>
            <p:nvPr/>
          </p:nvSpPr>
          <p:spPr>
            <a:xfrm>
              <a:off x="558792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360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5928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4496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3100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6680" y="28908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5587920" y="2995560"/>
            <a:ext cx="514440" cy="44640"/>
            <a:chOff x="5587920" y="2995560"/>
            <a:chExt cx="514440" cy="44640"/>
          </a:xfrm>
        </p:grpSpPr>
        <p:sp>
          <p:nvSpPr>
            <p:cNvPr id="619" name=""/>
            <p:cNvSpPr/>
            <p:nvPr/>
          </p:nvSpPr>
          <p:spPr>
            <a:xfrm>
              <a:off x="558792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7360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5928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4496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3100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16680" y="299556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5502240" y="2190600"/>
            <a:ext cx="685800" cy="908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027920" y="2251080"/>
            <a:ext cx="514440" cy="44280"/>
            <a:chOff x="7027920" y="2251080"/>
            <a:chExt cx="514440" cy="44280"/>
          </a:xfrm>
        </p:grpSpPr>
        <p:sp>
          <p:nvSpPr>
            <p:cNvPr id="627" name=""/>
            <p:cNvSpPr/>
            <p:nvPr/>
          </p:nvSpPr>
          <p:spPr>
            <a:xfrm>
              <a:off x="702792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1360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9928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8496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7100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456680" y="225108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027920" y="2251080"/>
            <a:ext cx="514440" cy="44280"/>
            <a:chOff x="7027920" y="2251080"/>
            <a:chExt cx="514440" cy="44280"/>
          </a:xfrm>
        </p:grpSpPr>
        <p:sp>
          <p:nvSpPr>
            <p:cNvPr id="634" name=""/>
            <p:cNvSpPr/>
            <p:nvPr/>
          </p:nvSpPr>
          <p:spPr>
            <a:xfrm>
              <a:off x="702792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1360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9928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8496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7100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56680" y="225108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7027920" y="2354400"/>
            <a:ext cx="514440" cy="46080"/>
            <a:chOff x="7027920" y="2354400"/>
            <a:chExt cx="514440" cy="46080"/>
          </a:xfrm>
        </p:grpSpPr>
        <p:sp>
          <p:nvSpPr>
            <p:cNvPr id="641" name=""/>
            <p:cNvSpPr/>
            <p:nvPr/>
          </p:nvSpPr>
          <p:spPr>
            <a:xfrm>
              <a:off x="702792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136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992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8496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710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566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027920" y="2354400"/>
            <a:ext cx="514440" cy="46080"/>
            <a:chOff x="7027920" y="2354400"/>
            <a:chExt cx="514440" cy="46080"/>
          </a:xfrm>
        </p:grpSpPr>
        <p:sp>
          <p:nvSpPr>
            <p:cNvPr id="648" name=""/>
            <p:cNvSpPr/>
            <p:nvPr/>
          </p:nvSpPr>
          <p:spPr>
            <a:xfrm>
              <a:off x="702792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36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92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8496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710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566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027920" y="2354400"/>
            <a:ext cx="514440" cy="46080"/>
            <a:chOff x="7027920" y="2354400"/>
            <a:chExt cx="514440" cy="46080"/>
          </a:xfrm>
        </p:grpSpPr>
        <p:sp>
          <p:nvSpPr>
            <p:cNvPr id="655" name=""/>
            <p:cNvSpPr/>
            <p:nvPr/>
          </p:nvSpPr>
          <p:spPr>
            <a:xfrm>
              <a:off x="702792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1136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992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8496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7100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56680" y="235440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7027920" y="2354400"/>
            <a:ext cx="8568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113600" y="235440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199280" y="235440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284960" y="2354400"/>
            <a:ext cx="85680" cy="46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370640" y="2354400"/>
            <a:ext cx="8568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456320" y="2354400"/>
            <a:ext cx="86040" cy="46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7027920" y="2457360"/>
            <a:ext cx="514440" cy="46080"/>
            <a:chOff x="7027920" y="2457360"/>
            <a:chExt cx="514440" cy="46080"/>
          </a:xfrm>
        </p:grpSpPr>
        <p:sp>
          <p:nvSpPr>
            <p:cNvPr id="668" name=""/>
            <p:cNvSpPr/>
            <p:nvPr/>
          </p:nvSpPr>
          <p:spPr>
            <a:xfrm>
              <a:off x="702792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11360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9928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28496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7100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56680" y="245736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027920" y="2562120"/>
            <a:ext cx="514440" cy="44640"/>
            <a:chOff x="7027920" y="2562120"/>
            <a:chExt cx="514440" cy="44640"/>
          </a:xfrm>
        </p:grpSpPr>
        <p:sp>
          <p:nvSpPr>
            <p:cNvPr id="675" name=""/>
            <p:cNvSpPr/>
            <p:nvPr/>
          </p:nvSpPr>
          <p:spPr>
            <a:xfrm>
              <a:off x="702792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1360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9928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28496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7100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56680" y="256212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027920" y="2665440"/>
            <a:ext cx="514440" cy="44280"/>
            <a:chOff x="7027920" y="2665440"/>
            <a:chExt cx="514440" cy="44280"/>
          </a:xfrm>
        </p:grpSpPr>
        <p:sp>
          <p:nvSpPr>
            <p:cNvPr id="682" name=""/>
            <p:cNvSpPr/>
            <p:nvPr/>
          </p:nvSpPr>
          <p:spPr>
            <a:xfrm>
              <a:off x="702792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1360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9928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8496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7100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56680" y="266544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7027920" y="2768760"/>
            <a:ext cx="514440" cy="45720"/>
            <a:chOff x="7027920" y="2768760"/>
            <a:chExt cx="514440" cy="45720"/>
          </a:xfrm>
        </p:grpSpPr>
        <p:sp>
          <p:nvSpPr>
            <p:cNvPr id="689" name=""/>
            <p:cNvSpPr/>
            <p:nvPr/>
          </p:nvSpPr>
          <p:spPr>
            <a:xfrm>
              <a:off x="702792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1360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8496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7100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456680" y="276876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7027920" y="2871720"/>
            <a:ext cx="514440" cy="46080"/>
            <a:chOff x="7027920" y="2871720"/>
            <a:chExt cx="514440" cy="46080"/>
          </a:xfrm>
        </p:grpSpPr>
        <p:sp>
          <p:nvSpPr>
            <p:cNvPr id="696" name=""/>
            <p:cNvSpPr/>
            <p:nvPr/>
          </p:nvSpPr>
          <p:spPr>
            <a:xfrm>
              <a:off x="702792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1360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8496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7100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56680" y="287172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027920" y="297648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113600" y="297648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199280" y="297648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284960" y="2976480"/>
            <a:ext cx="85680" cy="44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370640" y="2976480"/>
            <a:ext cx="8568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456320" y="2976480"/>
            <a:ext cx="86040" cy="44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942240" y="217188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770520" y="509760"/>
            <a:ext cx="685800" cy="907920"/>
            <a:chOff x="6770520" y="509760"/>
            <a:chExt cx="685800" cy="907920"/>
          </a:xfrm>
        </p:grpSpPr>
        <p:grpSp>
          <p:nvGrpSpPr>
            <p:cNvPr id="710" name=""/>
            <p:cNvGrpSpPr/>
            <p:nvPr/>
          </p:nvGrpSpPr>
          <p:grpSpPr>
            <a:xfrm>
              <a:off x="6855840" y="588600"/>
              <a:ext cx="514800" cy="770760"/>
              <a:chOff x="6855840" y="588600"/>
              <a:chExt cx="514800" cy="77076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6855840" y="588600"/>
                <a:ext cx="514800" cy="45000"/>
                <a:chOff x="6855840" y="588600"/>
                <a:chExt cx="514800" cy="450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685584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4152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02720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11324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19892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28496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6855840" y="588600"/>
                <a:ext cx="514800" cy="45000"/>
                <a:chOff x="6855840" y="588600"/>
                <a:chExt cx="514800" cy="4500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685584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94152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02720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11324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19892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284960" y="588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6855840" y="691920"/>
                <a:ext cx="514800" cy="45000"/>
                <a:chOff x="6855840" y="691920"/>
                <a:chExt cx="514800" cy="450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68558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9415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702720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71132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1989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28496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6855840" y="691920"/>
                <a:ext cx="514800" cy="45000"/>
                <a:chOff x="6855840" y="691920"/>
                <a:chExt cx="514800" cy="4500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68558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9415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2720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132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989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28496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855840" y="691920"/>
                <a:ext cx="514800" cy="45000"/>
                <a:chOff x="6855840" y="691920"/>
                <a:chExt cx="514800" cy="450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68558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9415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02720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1132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1989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28496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6855840" y="691920"/>
                <a:ext cx="514800" cy="45000"/>
                <a:chOff x="6855840" y="691920"/>
                <a:chExt cx="514800" cy="4500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68558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9415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2720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11324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19892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284960" y="6919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855840" y="795600"/>
                <a:ext cx="514800" cy="45000"/>
                <a:chOff x="6855840" y="795600"/>
                <a:chExt cx="514800" cy="450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85584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94152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02720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11324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19892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284960" y="7956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6855840" y="899280"/>
                <a:ext cx="514800" cy="45000"/>
                <a:chOff x="6855840" y="899280"/>
                <a:chExt cx="514800" cy="450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85584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94152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02720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711324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719892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284960" y="8992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6855840" y="1002960"/>
                <a:ext cx="514800" cy="45000"/>
                <a:chOff x="6855840" y="1002960"/>
                <a:chExt cx="514800" cy="450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685584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94152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702720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711324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19892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7284960" y="10029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6855840" y="1107000"/>
                <a:ext cx="514800" cy="45000"/>
                <a:chOff x="6855840" y="1107000"/>
                <a:chExt cx="514800" cy="450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685584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94152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02720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11324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19892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284960" y="11070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6855840" y="1210320"/>
                <a:ext cx="514800" cy="45000"/>
                <a:chOff x="6855840" y="1210320"/>
                <a:chExt cx="514800" cy="450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685584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94152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02720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11324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19892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284960" y="12103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6855840" y="1314360"/>
                <a:ext cx="514800" cy="45000"/>
                <a:chOff x="6855840" y="1314360"/>
                <a:chExt cx="514800" cy="450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685584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94152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02720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11324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19892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284960" y="13143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"/>
            <p:cNvSpPr/>
            <p:nvPr/>
          </p:nvSpPr>
          <p:spPr>
            <a:xfrm>
              <a:off x="6770520" y="50976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5573880" y="588960"/>
            <a:ext cx="514080" cy="44280"/>
            <a:chOff x="5573880" y="588960"/>
            <a:chExt cx="514080" cy="44280"/>
          </a:xfrm>
        </p:grpSpPr>
        <p:sp>
          <p:nvSpPr>
            <p:cNvPr id="797" name=""/>
            <p:cNvSpPr/>
            <p:nvPr/>
          </p:nvSpPr>
          <p:spPr>
            <a:xfrm>
              <a:off x="557388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5956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74524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83092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1660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0228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573880" y="588960"/>
            <a:ext cx="514080" cy="44280"/>
            <a:chOff x="5573880" y="588960"/>
            <a:chExt cx="514080" cy="44280"/>
          </a:xfrm>
        </p:grpSpPr>
        <p:sp>
          <p:nvSpPr>
            <p:cNvPr id="804" name=""/>
            <p:cNvSpPr/>
            <p:nvPr/>
          </p:nvSpPr>
          <p:spPr>
            <a:xfrm>
              <a:off x="557388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65956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24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3092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91660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002280" y="588960"/>
              <a:ext cx="85680" cy="4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5573880" y="692280"/>
            <a:ext cx="514080" cy="46080"/>
            <a:chOff x="5573880" y="692280"/>
            <a:chExt cx="514080" cy="46080"/>
          </a:xfrm>
        </p:grpSpPr>
        <p:sp>
          <p:nvSpPr>
            <p:cNvPr id="811" name=""/>
            <p:cNvSpPr/>
            <p:nvPr/>
          </p:nvSpPr>
          <p:spPr>
            <a:xfrm>
              <a:off x="55738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5956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4524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3092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1660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022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573880" y="692280"/>
            <a:ext cx="514080" cy="46080"/>
            <a:chOff x="5573880" y="692280"/>
            <a:chExt cx="514080" cy="46080"/>
          </a:xfrm>
        </p:grpSpPr>
        <p:sp>
          <p:nvSpPr>
            <p:cNvPr id="818" name=""/>
            <p:cNvSpPr/>
            <p:nvPr/>
          </p:nvSpPr>
          <p:spPr>
            <a:xfrm>
              <a:off x="55738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5956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4524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1660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022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5573880" y="692280"/>
            <a:ext cx="514080" cy="46080"/>
            <a:chOff x="5573880" y="692280"/>
            <a:chExt cx="514080" cy="46080"/>
          </a:xfrm>
        </p:grpSpPr>
        <p:sp>
          <p:nvSpPr>
            <p:cNvPr id="825" name=""/>
            <p:cNvSpPr/>
            <p:nvPr/>
          </p:nvSpPr>
          <p:spPr>
            <a:xfrm>
              <a:off x="55738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5956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4524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3092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1660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22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5573880" y="692280"/>
            <a:ext cx="514080" cy="46080"/>
            <a:chOff x="5573880" y="692280"/>
            <a:chExt cx="514080" cy="46080"/>
          </a:xfrm>
        </p:grpSpPr>
        <p:sp>
          <p:nvSpPr>
            <p:cNvPr id="832" name=""/>
            <p:cNvSpPr/>
            <p:nvPr/>
          </p:nvSpPr>
          <p:spPr>
            <a:xfrm>
              <a:off x="55738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65956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4524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3092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1660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02280" y="69228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73880" y="795240"/>
            <a:ext cx="514080" cy="46080"/>
            <a:chOff x="5573880" y="795240"/>
            <a:chExt cx="514080" cy="46080"/>
          </a:xfrm>
        </p:grpSpPr>
        <p:sp>
          <p:nvSpPr>
            <p:cNvPr id="839" name=""/>
            <p:cNvSpPr/>
            <p:nvPr/>
          </p:nvSpPr>
          <p:spPr>
            <a:xfrm>
              <a:off x="557388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5956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4524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3092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91660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002280" y="795240"/>
              <a:ext cx="856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5573880" y="900000"/>
            <a:ext cx="514080" cy="44640"/>
            <a:chOff x="5573880" y="900000"/>
            <a:chExt cx="514080" cy="44640"/>
          </a:xfrm>
        </p:grpSpPr>
        <p:sp>
          <p:nvSpPr>
            <p:cNvPr id="846" name=""/>
            <p:cNvSpPr/>
            <p:nvPr/>
          </p:nvSpPr>
          <p:spPr>
            <a:xfrm>
              <a:off x="557388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5956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74524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3092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91660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02280" y="900000"/>
              <a:ext cx="85680" cy="4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573880" y="1003320"/>
            <a:ext cx="514080" cy="44280"/>
            <a:chOff x="5573880" y="1003320"/>
            <a:chExt cx="514080" cy="44280"/>
          </a:xfrm>
        </p:grpSpPr>
        <p:sp>
          <p:nvSpPr>
            <p:cNvPr id="853" name=""/>
            <p:cNvSpPr/>
            <p:nvPr/>
          </p:nvSpPr>
          <p:spPr>
            <a:xfrm>
              <a:off x="557388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65956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4524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3092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1660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02280" y="1003320"/>
              <a:ext cx="85680" cy="44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573880" y="1106640"/>
            <a:ext cx="514080" cy="45720"/>
            <a:chOff x="5573880" y="1106640"/>
            <a:chExt cx="514080" cy="45720"/>
          </a:xfrm>
        </p:grpSpPr>
        <p:sp>
          <p:nvSpPr>
            <p:cNvPr id="860" name=""/>
            <p:cNvSpPr/>
            <p:nvPr/>
          </p:nvSpPr>
          <p:spPr>
            <a:xfrm>
              <a:off x="557388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65956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74524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3092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1660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02280" y="1106640"/>
              <a:ext cx="85680" cy="4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5573880" y="1209600"/>
            <a:ext cx="514080" cy="46080"/>
            <a:chOff x="5573880" y="1209600"/>
            <a:chExt cx="514080" cy="46080"/>
          </a:xfrm>
        </p:grpSpPr>
        <p:sp>
          <p:nvSpPr>
            <p:cNvPr id="867" name=""/>
            <p:cNvSpPr/>
            <p:nvPr/>
          </p:nvSpPr>
          <p:spPr>
            <a:xfrm>
              <a:off x="557388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65956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4524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3092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91660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02280" y="1209600"/>
              <a:ext cx="85680" cy="46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5573880" y="1314360"/>
            <a:ext cx="514080" cy="44640"/>
            <a:chOff x="5573880" y="1314360"/>
            <a:chExt cx="514080" cy="44640"/>
          </a:xfrm>
        </p:grpSpPr>
        <p:sp>
          <p:nvSpPr>
            <p:cNvPr id="874" name=""/>
            <p:cNvSpPr/>
            <p:nvPr/>
          </p:nvSpPr>
          <p:spPr>
            <a:xfrm>
              <a:off x="557388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65956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4524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83092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91660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02280" y="1314360"/>
              <a:ext cx="85680" cy="44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5487840" y="509760"/>
            <a:ext cx="685800" cy="907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 flipV="1">
            <a:off x="3902040" y="4389120"/>
            <a:ext cx="1209600" cy="1119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5111640" y="3975120"/>
            <a:ext cx="1182960" cy="1533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5368680" y="4284360"/>
            <a:ext cx="1182600" cy="12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6551640" y="4259160"/>
            <a:ext cx="1252440" cy="1230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8018640" y="4595400"/>
            <a:ext cx="0" cy="893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 flipV="1">
            <a:off x="6808320" y="4389480"/>
            <a:ext cx="1209960" cy="1100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3414240" y="4181400"/>
            <a:ext cx="257400" cy="1308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3586320" y="2814120"/>
            <a:ext cx="561960" cy="932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4662360" y="2373480"/>
            <a:ext cx="449280" cy="1373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111640" y="2314440"/>
            <a:ext cx="476280" cy="1432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6551640" y="2890440"/>
            <a:ext cx="476280" cy="855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7284960" y="2562120"/>
            <a:ext cx="733680" cy="118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4405320" y="1049400"/>
            <a:ext cx="1182600" cy="1122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5659560" y="1360440"/>
            <a:ext cx="171360" cy="81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6087600" y="1257480"/>
            <a:ext cx="119700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7113600" y="796680"/>
            <a:ext cx="171360" cy="13748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5830920" y="1211400"/>
            <a:ext cx="1025640" cy="96048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5830920" y="915480"/>
            <a:ext cx="2673360" cy="12560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7284960" y="1106280"/>
            <a:ext cx="1219320" cy="106524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5111640" y="1356840"/>
            <a:ext cx="3354480" cy="23893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8161200" y="507960"/>
            <a:ext cx="685800" cy="907920"/>
            <a:chOff x="8161200" y="507960"/>
            <a:chExt cx="685800" cy="907920"/>
          </a:xfrm>
        </p:grpSpPr>
        <p:grpSp>
          <p:nvGrpSpPr>
            <p:cNvPr id="902" name=""/>
            <p:cNvGrpSpPr/>
            <p:nvPr/>
          </p:nvGrpSpPr>
          <p:grpSpPr>
            <a:xfrm>
              <a:off x="8246520" y="586800"/>
              <a:ext cx="514800" cy="770760"/>
              <a:chOff x="8246520" y="586800"/>
              <a:chExt cx="514800" cy="770760"/>
            </a:xfrm>
          </p:grpSpPr>
          <p:grpSp>
            <p:nvGrpSpPr>
              <p:cNvPr id="903" name=""/>
              <p:cNvGrpSpPr/>
              <p:nvPr/>
            </p:nvGrpSpPr>
            <p:grpSpPr>
              <a:xfrm>
                <a:off x="8246520" y="586800"/>
                <a:ext cx="514800" cy="45000"/>
                <a:chOff x="8246520" y="586800"/>
                <a:chExt cx="514800" cy="4500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824652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833220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841788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50392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858960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867564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8246520" y="586800"/>
                <a:ext cx="514800" cy="45000"/>
                <a:chOff x="8246520" y="586800"/>
                <a:chExt cx="514800" cy="4500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824652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833220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841788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850392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58960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8675640" y="586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8246520" y="690120"/>
                <a:ext cx="514800" cy="45000"/>
                <a:chOff x="8246520" y="690120"/>
                <a:chExt cx="514800" cy="4500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82465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83322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841788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5039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85896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867564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8246520" y="690120"/>
                <a:ext cx="514800" cy="45000"/>
                <a:chOff x="8246520" y="690120"/>
                <a:chExt cx="514800" cy="450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82465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83322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841788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85039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85896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867564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8246520" y="690120"/>
                <a:ext cx="514800" cy="45000"/>
                <a:chOff x="8246520" y="690120"/>
                <a:chExt cx="514800" cy="4500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82465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83322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841788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85039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85896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867564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8" name=""/>
              <p:cNvGrpSpPr/>
              <p:nvPr/>
            </p:nvGrpSpPr>
            <p:grpSpPr>
              <a:xfrm>
                <a:off x="8246520" y="690120"/>
                <a:ext cx="514800" cy="45000"/>
                <a:chOff x="8246520" y="690120"/>
                <a:chExt cx="514800" cy="4500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82465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83322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841788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850392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858960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8675640" y="6901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8246520" y="793800"/>
                <a:ext cx="514800" cy="45000"/>
                <a:chOff x="8246520" y="793800"/>
                <a:chExt cx="514800" cy="4500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824652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833220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841788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850392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858960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8675640" y="7938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8246520" y="897480"/>
                <a:ext cx="514800" cy="45000"/>
                <a:chOff x="8246520" y="897480"/>
                <a:chExt cx="514800" cy="450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824652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833220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841788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850392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858960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8675640" y="89748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8246520" y="1001160"/>
                <a:ext cx="514800" cy="45000"/>
                <a:chOff x="8246520" y="1001160"/>
                <a:chExt cx="514800" cy="4500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824652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33220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841788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850392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858960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8675640" y="10011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8246520" y="1105200"/>
                <a:ext cx="514800" cy="45000"/>
                <a:chOff x="8246520" y="1105200"/>
                <a:chExt cx="514800" cy="450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824652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833220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841788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850392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858960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675640" y="110520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8246520" y="1208520"/>
                <a:ext cx="514800" cy="45000"/>
                <a:chOff x="8246520" y="1208520"/>
                <a:chExt cx="514800" cy="4500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824652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33220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841788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850392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858960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675640" y="120852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8246520" y="1312560"/>
                <a:ext cx="514800" cy="45000"/>
                <a:chOff x="8246520" y="1312560"/>
                <a:chExt cx="514800" cy="4500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824652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833220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41788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850392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858960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8675640" y="1312560"/>
                  <a:ext cx="85680" cy="45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"/>
            <p:cNvSpPr/>
            <p:nvPr/>
          </p:nvSpPr>
          <p:spPr>
            <a:xfrm>
              <a:off x="8161200" y="50796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V="1">
            <a:off x="8018640" y="1356840"/>
            <a:ext cx="657000" cy="2389320"/>
          </a:xfrm>
          <a:prstGeom prst="line">
            <a:avLst/>
          </a:prstGeom>
          <a:ln w="158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328920" y="6554880"/>
            <a:ext cx="50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                    E                   F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300480" y="4803840"/>
            <a:ext cx="50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                   C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156200" y="3179880"/>
            <a:ext cx="33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484960" y="147636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770280" y="50328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718160" y="773280"/>
            <a:ext cx="574560" cy="198360"/>
          </a:xfrm>
          <a:prstGeom prst="rightArrow">
            <a:avLst>
              <a:gd name="adj1" fmla="val 50000"/>
              <a:gd name="adj2" fmla="val 724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87640" y="-20520"/>
            <a:ext cx="49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matic Frame 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556640" y="1427040"/>
            <a:ext cx="2066400" cy="3983040"/>
            <a:chOff x="1556640" y="1427040"/>
            <a:chExt cx="2066400" cy="3983040"/>
          </a:xfrm>
        </p:grpSpPr>
        <p:sp>
          <p:nvSpPr>
            <p:cNvPr id="997" name=""/>
            <p:cNvSpPr/>
            <p:nvPr/>
          </p:nvSpPr>
          <p:spPr>
            <a:xfrm>
              <a:off x="2957760" y="1779480"/>
              <a:ext cx="225360" cy="3337200"/>
            </a:xfrm>
            <a:prstGeom prst="upDownArrow">
              <a:avLst>
                <a:gd name="adj1" fmla="val 49657"/>
                <a:gd name="adj2" fmla="val 16062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556640" y="2922480"/>
              <a:ext cx="143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745000" y="5041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517120" y="142704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i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4000" y="506520"/>
            <a:ext cx="266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pecification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the assembl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fic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a pro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01520" y="3983040"/>
            <a:ext cx="25812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rame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Parameterized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of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 flipV="1">
            <a:off x="350640" y="4175280"/>
            <a:ext cx="23652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3983040"/>
            <a:ext cx="28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n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make su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ssemb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a part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141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4764240" y="5540400"/>
            <a:ext cx="685800" cy="907920"/>
            <a:chOff x="4764240" y="5540400"/>
            <a:chExt cx="685800" cy="907920"/>
          </a:xfrm>
        </p:grpSpPr>
        <p:grpSp>
          <p:nvGrpSpPr>
            <p:cNvPr id="1008" name=""/>
            <p:cNvGrpSpPr/>
            <p:nvPr/>
          </p:nvGrpSpPr>
          <p:grpSpPr>
            <a:xfrm>
              <a:off x="4849920" y="5619600"/>
              <a:ext cx="514440" cy="770040"/>
              <a:chOff x="4849920" y="5619600"/>
              <a:chExt cx="514440" cy="770040"/>
            </a:xfrm>
          </p:grpSpPr>
          <p:grpSp>
            <p:nvGrpSpPr>
              <p:cNvPr id="1009" name=""/>
              <p:cNvGrpSpPr/>
              <p:nvPr/>
            </p:nvGrpSpPr>
            <p:grpSpPr>
              <a:xfrm>
                <a:off x="4849920" y="5619600"/>
                <a:ext cx="514440" cy="45000"/>
                <a:chOff x="4849920" y="5619600"/>
                <a:chExt cx="514440" cy="4500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484992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9356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0212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106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51930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5278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4849920" y="5619600"/>
                <a:ext cx="514440" cy="45000"/>
                <a:chOff x="4849920" y="5619600"/>
                <a:chExt cx="514440" cy="4500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484992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9356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0212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106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1930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278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4849920" y="5722920"/>
                <a:ext cx="514440" cy="45000"/>
                <a:chOff x="4849920" y="5722920"/>
                <a:chExt cx="514440" cy="450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4849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935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021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106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193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278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4849920" y="5722920"/>
                <a:ext cx="514440" cy="45000"/>
                <a:chOff x="4849920" y="5722920"/>
                <a:chExt cx="514440" cy="4500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4849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935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5021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106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5193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5278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4849920" y="5722920"/>
                <a:ext cx="514440" cy="45000"/>
                <a:chOff x="4849920" y="5722920"/>
                <a:chExt cx="514440" cy="4500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4849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935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021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106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193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5278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849920" y="5722920"/>
                <a:ext cx="514440" cy="45000"/>
                <a:chOff x="4849920" y="5722920"/>
                <a:chExt cx="514440" cy="450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4849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356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0212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5106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193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278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4849920" y="5826600"/>
                <a:ext cx="514440" cy="45000"/>
                <a:chOff x="4849920" y="5826600"/>
                <a:chExt cx="514440" cy="450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484992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93560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0212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1069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19300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52786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4849920" y="5929920"/>
                <a:ext cx="514440" cy="45000"/>
                <a:chOff x="4849920" y="5929920"/>
                <a:chExt cx="514440" cy="450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484992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93560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0212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1069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519300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52786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4849920" y="6033600"/>
                <a:ext cx="514440" cy="45000"/>
                <a:chOff x="4849920" y="6033600"/>
                <a:chExt cx="514440" cy="450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484992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93560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0212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1069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19300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52786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4849920" y="6137280"/>
                <a:ext cx="514440" cy="45000"/>
                <a:chOff x="4849920" y="6137280"/>
                <a:chExt cx="514440" cy="450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484992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93560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50212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1069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19300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2786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4849920" y="6240960"/>
                <a:ext cx="514440" cy="45000"/>
                <a:chOff x="4849920" y="6240960"/>
                <a:chExt cx="514440" cy="4500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484992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93560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50212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51069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19300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2786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4849920" y="6344640"/>
                <a:ext cx="514440" cy="45000"/>
                <a:chOff x="4849920" y="6344640"/>
                <a:chExt cx="514440" cy="450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484992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93560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0212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1069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19300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52786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3" name=""/>
            <p:cNvSpPr/>
            <p:nvPr/>
          </p:nvSpPr>
          <p:spPr>
            <a:xfrm>
              <a:off x="4764240" y="554040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6199200" y="5540400"/>
            <a:ext cx="685800" cy="907920"/>
            <a:chOff x="6199200" y="5540400"/>
            <a:chExt cx="685800" cy="907920"/>
          </a:xfrm>
        </p:grpSpPr>
        <p:grpSp>
          <p:nvGrpSpPr>
            <p:cNvPr id="1095" name=""/>
            <p:cNvGrpSpPr/>
            <p:nvPr/>
          </p:nvGrpSpPr>
          <p:grpSpPr>
            <a:xfrm>
              <a:off x="6284880" y="5619600"/>
              <a:ext cx="514440" cy="770040"/>
              <a:chOff x="6284880" y="5619600"/>
              <a:chExt cx="514440" cy="77004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6284880" y="5619600"/>
                <a:ext cx="514440" cy="45000"/>
                <a:chOff x="6284880" y="5619600"/>
                <a:chExt cx="514440" cy="4500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62848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63705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64562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654192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6627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67136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6284880" y="5619600"/>
                <a:ext cx="514440" cy="45000"/>
                <a:chOff x="6284880" y="5619600"/>
                <a:chExt cx="514440" cy="4500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62848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63705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4562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54192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6279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67136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6284880" y="5722920"/>
                <a:ext cx="514440" cy="45000"/>
                <a:chOff x="6284880" y="5722920"/>
                <a:chExt cx="514440" cy="450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62848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63705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64562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541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627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713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6284880" y="5722920"/>
                <a:ext cx="514440" cy="45000"/>
                <a:chOff x="6284880" y="5722920"/>
                <a:chExt cx="514440" cy="4500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62848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63705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64562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6541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6627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713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6284880" y="5722920"/>
                <a:ext cx="514440" cy="45000"/>
                <a:chOff x="6284880" y="5722920"/>
                <a:chExt cx="514440" cy="4500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62848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3705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562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6541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627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713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284880" y="5722920"/>
                <a:ext cx="514440" cy="45000"/>
                <a:chOff x="6284880" y="5722920"/>
                <a:chExt cx="514440" cy="450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2848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3705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64562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54192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6279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67136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6284880" y="5826600"/>
                <a:ext cx="514440" cy="45000"/>
                <a:chOff x="6284880" y="5826600"/>
                <a:chExt cx="514440" cy="4500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62848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63705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5624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4192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66279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671364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6284880" y="5929920"/>
                <a:ext cx="514440" cy="45000"/>
                <a:chOff x="6284880" y="5929920"/>
                <a:chExt cx="514440" cy="45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62848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3705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5624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54192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66279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71364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6284880" y="6033600"/>
                <a:ext cx="514440" cy="45000"/>
                <a:chOff x="6284880" y="6033600"/>
                <a:chExt cx="514440" cy="450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848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3705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45624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654192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6279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671364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6284880" y="6137280"/>
                <a:ext cx="514440" cy="45000"/>
                <a:chOff x="6284880" y="6137280"/>
                <a:chExt cx="514440" cy="4500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62848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63705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645624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654192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6279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671364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6284880" y="6240960"/>
                <a:ext cx="514440" cy="45000"/>
                <a:chOff x="6284880" y="6240960"/>
                <a:chExt cx="514440" cy="4500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62848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63705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645624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54192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66279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71364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6284880" y="6344640"/>
                <a:ext cx="514440" cy="45000"/>
                <a:chOff x="6284880" y="6344640"/>
                <a:chExt cx="514440" cy="4500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62848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63705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45624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54192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66279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671364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0" name=""/>
            <p:cNvSpPr/>
            <p:nvPr/>
          </p:nvSpPr>
          <p:spPr>
            <a:xfrm>
              <a:off x="6199200" y="554040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672320" y="5540400"/>
            <a:ext cx="685800" cy="907920"/>
            <a:chOff x="7672320" y="5540400"/>
            <a:chExt cx="685800" cy="907920"/>
          </a:xfrm>
        </p:grpSpPr>
        <p:grpSp>
          <p:nvGrpSpPr>
            <p:cNvPr id="1182" name=""/>
            <p:cNvGrpSpPr/>
            <p:nvPr/>
          </p:nvGrpSpPr>
          <p:grpSpPr>
            <a:xfrm>
              <a:off x="7758000" y="5619600"/>
              <a:ext cx="514440" cy="770040"/>
              <a:chOff x="7758000" y="5619600"/>
              <a:chExt cx="514440" cy="770040"/>
            </a:xfrm>
          </p:grpSpPr>
          <p:grpSp>
            <p:nvGrpSpPr>
              <p:cNvPr id="1183" name=""/>
              <p:cNvGrpSpPr/>
              <p:nvPr/>
            </p:nvGrpSpPr>
            <p:grpSpPr>
              <a:xfrm>
                <a:off x="7758000" y="5619600"/>
                <a:ext cx="514440" cy="45000"/>
                <a:chOff x="7758000" y="5619600"/>
                <a:chExt cx="514440" cy="4500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77580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7843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79293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0150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81010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81867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7758000" y="5619600"/>
                <a:ext cx="514440" cy="45000"/>
                <a:chOff x="7758000" y="5619600"/>
                <a:chExt cx="514440" cy="4500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775800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8436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79293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801504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10108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8186760" y="5619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7758000" y="5722920"/>
                <a:ext cx="514440" cy="45000"/>
                <a:chOff x="7758000" y="5722920"/>
                <a:chExt cx="514440" cy="4500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7758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7843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7929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80150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81010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1867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7758000" y="5722920"/>
                <a:ext cx="514440" cy="45000"/>
                <a:chOff x="7758000" y="5722920"/>
                <a:chExt cx="514440" cy="4500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7758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7843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7929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80150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1010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81867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7758000" y="5722920"/>
                <a:ext cx="514440" cy="45000"/>
                <a:chOff x="7758000" y="5722920"/>
                <a:chExt cx="514440" cy="4500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7758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7843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7929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80150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81010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81867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7758000" y="5722920"/>
                <a:ext cx="514440" cy="45000"/>
                <a:chOff x="7758000" y="5722920"/>
                <a:chExt cx="514440" cy="450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775800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78436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79293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01504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810108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8186760" y="5722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7758000" y="5826600"/>
                <a:ext cx="514440" cy="45000"/>
                <a:chOff x="7758000" y="5826600"/>
                <a:chExt cx="514440" cy="4500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775800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78436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79293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01504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10108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186760" y="5826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7758000" y="5929920"/>
                <a:ext cx="514440" cy="45000"/>
                <a:chOff x="7758000" y="5929920"/>
                <a:chExt cx="514440" cy="4500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775800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78436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79293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801504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10108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186760" y="592992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7758000" y="6033600"/>
                <a:ext cx="514440" cy="45000"/>
                <a:chOff x="7758000" y="6033600"/>
                <a:chExt cx="514440" cy="4500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775800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78436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79293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01504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810108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186760" y="603360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7758000" y="6137280"/>
                <a:ext cx="514440" cy="45000"/>
                <a:chOff x="7758000" y="6137280"/>
                <a:chExt cx="514440" cy="4500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775800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8436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79293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01504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10108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186760" y="613728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7758000" y="6240960"/>
                <a:ext cx="514440" cy="45000"/>
                <a:chOff x="7758000" y="6240960"/>
                <a:chExt cx="514440" cy="4500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775800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78436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79293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801504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810108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186760" y="624096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7758000" y="6344640"/>
                <a:ext cx="514440" cy="45000"/>
                <a:chOff x="7758000" y="6344640"/>
                <a:chExt cx="514440" cy="4500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775800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78436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79293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01504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10108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186760" y="6344640"/>
                  <a:ext cx="85680" cy="45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7" name=""/>
            <p:cNvSpPr/>
            <p:nvPr/>
          </p:nvSpPr>
          <p:spPr>
            <a:xfrm>
              <a:off x="7672320" y="5540400"/>
              <a:ext cx="685800" cy="9079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3960" y="5659560"/>
            <a:ext cx="2500200" cy="1191240"/>
            <a:chOff x="3960" y="5659560"/>
            <a:chExt cx="2500200" cy="1191240"/>
          </a:xfrm>
        </p:grpSpPr>
        <p:sp>
          <p:nvSpPr>
            <p:cNvPr id="1269" name=""/>
            <p:cNvSpPr/>
            <p:nvPr/>
          </p:nvSpPr>
          <p:spPr>
            <a:xfrm>
              <a:off x="3960" y="5659560"/>
              <a:ext cx="25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 example of 3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sted subassembli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    B C D E 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    D E)  (C    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345960" y="6404040"/>
              <a:ext cx="193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45960" y="6667560"/>
              <a:ext cx="193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1425600" y="6667560"/>
              <a:ext cx="193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20:07:17Z</dcterms:created>
  <dc:creator>Paul Bassett</dc:creator>
  <dc:description/>
  <dc:language>en-US</dc:language>
  <cp:lastModifiedBy>Evelyn Tobler</cp:lastModifiedBy>
  <dcterms:modified xsi:type="dcterms:W3CDTF">2007-06-14T16:51:44Z</dcterms:modified>
  <cp:revision>6</cp:revision>
  <dc:subject/>
  <dc:title>Slide 1</dc:title>
</cp:coreProperties>
</file>